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2FE2-B5F2-41C0-A93C-C9287DCA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1EDD-B610-41A8-AFF3-FF13AB61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737F-3B99-48AD-BA4E-AA14A42E3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84CF-2B3C-44F1-8BEC-8FA57180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8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0B4-09F6-4C57-98FE-A87D168B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572-8164-46E1-B274-887259E0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360-896A-484A-8FBB-45938CA8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A0B-98F2-4349-8F0D-A9486A44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CEB-CDC9-4EFA-8492-416C7E47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8CF-5355-44E5-B963-0FFFE77B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6782-751B-4BE9-B6D0-D812E81E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7511-7161-4D2B-AD6E-15E91B2C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916C-22B4-4B1C-8174-BF93C8DD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F815-2C86-48BA-A180-3A87F95F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35E7-B604-4356-A2A2-EC8DA46C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E872-BD88-4B61-9123-F273F764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6A14-D236-405D-B375-17E4A78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9C3-DB01-4FA0-8F7F-61669DEC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42BD-F7E6-4AED-85FC-9BD5608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6DC2-2DDF-4788-ACDE-6260FA9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934-7634-443B-AEB3-DF4BA41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4952-0FD9-48CB-B8FD-B9EFCD9F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CBBB-650F-431A-9E1D-D34C20EF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F16B-AECE-44F5-84A0-4FF8C7D8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4EA7-893F-40E6-BE82-F1E1D715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8522-E480-4375-B687-59C00263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FCDA-8D45-4D04-B67F-934163E7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25F9-BE13-4B3D-A5B7-6B1702B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48A-A04C-4795-BED6-6E0B2FE5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D5C6-EAD6-46CC-A84E-5BCE5B0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A08B-803C-426E-A46A-A4BC4A3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3BB1-65DE-4214-9D56-DEDBF57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2116-77E9-4EB6-B48F-257AA01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8B5C-A155-4B96-9E61-BA9D4D5B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9D66-AC01-4DD7-A01B-8AD30457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EB6E-0A6F-42D4-B31E-D33DD31A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F3A-1F08-41B3-9B21-5D0A14C8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E47-5CBC-40B1-B40F-9303CBA6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2FD-8A10-435F-83A3-6695E95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BC3-09BA-4803-B999-31ACBAF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BFB-A1D5-423F-AD02-DDCCB23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622-0E3F-40C7-B3AA-C796F83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9E4-925F-4CFB-BCBF-ACBE624DE2B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3395-93C4-447D-8AAF-E0FF9249666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7349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58370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5EB4-45A8-44E9-ADA5-B8EF34B41BE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. 18:  The CR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7.  </a:t>
            </a: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Brown v. BOE </a:t>
            </a:r>
            <a:r>
              <a:rPr b="0" i="1" lang="en-US" sz="2000" spc="-1" strike="noStrike">
                <a:solidFill>
                  <a:srgbClr val="482400"/>
                </a:solidFill>
                <a:latin typeface="Times New Roman"/>
              </a:rPr>
              <a:t>(1954)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2040" y="1676520"/>
            <a:ext cx="412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case re: segregation i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eme Court ruled segregation was unconstitutional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urn of “separate but equal” 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brown"/>
          <p:cNvPicPr/>
          <p:nvPr/>
        </p:nvPicPr>
        <p:blipFill>
          <a:blip r:embed="rId1"/>
          <a:stretch/>
        </p:blipFill>
        <p:spPr>
          <a:xfrm>
            <a:off x="4573440" y="1549440"/>
            <a:ext cx="4572000" cy="2303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2201760" y="1789200"/>
            <a:ext cx="474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browngirls"/>
          <p:cNvPicPr/>
          <p:nvPr/>
        </p:nvPicPr>
        <p:blipFill>
          <a:blip r:embed="rId2"/>
          <a:stretch/>
        </p:blipFill>
        <p:spPr>
          <a:xfrm>
            <a:off x="5479920" y="3886200"/>
            <a:ext cx="249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. Southern Resist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1640" y="1766880"/>
            <a:ext cx="3808440" cy="5014800"/>
          </a:xfrm>
          <a:prstGeom prst="rect">
            <a:avLst/>
          </a:prstGeom>
          <a:noFill/>
          <a:ln w="0">
            <a:noFill/>
          </a:ln>
        </p:spPr>
        <p:txBody>
          <a:bodyPr tIns="22680" anchor="t">
            <a:normAutofit fontScale="98000"/>
          </a:bodyPr>
          <a:p>
            <a:pPr marL="335880" indent="-303120">
              <a:spcBef>
                <a:spcPts val="624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.  “Southern Manifest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Group of congressmen who decla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v.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 “abuse of judicial pow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Did not integrate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03120">
              <a:spcBef>
                <a:spcPts val="601"/>
              </a:spcBef>
              <a:tabLst>
                <a:tab algn="l" pos="0"/>
                <a:tab algn="l" pos="309600"/>
                <a:tab algn="l" pos="654120"/>
                <a:tab algn="l" pos="1311120"/>
                <a:tab algn="l" pos="1968480"/>
                <a:tab algn="l" pos="2624040"/>
                <a:tab algn="l" pos="328140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55040"/>
                <a:tab algn="l" pos="8962920"/>
                <a:tab algn="l" pos="9371160"/>
                <a:tab algn="l" pos="9779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**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060520" y="1676520"/>
            <a:ext cx="38084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***************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0"/>
          <a:stretch/>
        </p:blipFill>
        <p:spPr>
          <a:xfrm>
            <a:off x="5060880" y="1828800"/>
            <a:ext cx="4083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520" y="2590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1.  Rosa Parks &amp; the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Montgomery, Alabama Bus Boycott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9704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Civil Rights Movement Be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15740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157400" y="1038240"/>
            <a:ext cx="6777000" cy="360"/>
          </a:xfrm>
          <a:prstGeom prst="rect">
            <a:avLst/>
          </a:prstGeom>
          <a:solidFill>
            <a:srgbClr val="f1f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36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157400" y="1038240"/>
            <a:ext cx="6777000" cy="360"/>
          </a:xfrm>
          <a:prstGeom prst="rect">
            <a:avLst/>
          </a:prstGeom>
          <a:solidFill>
            <a:srgbClr val="f1f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0" descr="Rosa Parks in Montgomery after the Supreme Court decision outlawing segregation on public transit."/>
          <p:cNvPicPr/>
          <p:nvPr/>
        </p:nvPicPr>
        <p:blipFill>
          <a:blip r:embed="rId1"/>
          <a:stretch/>
        </p:blipFill>
        <p:spPr>
          <a:xfrm>
            <a:off x="5943600" y="762120"/>
            <a:ext cx="25732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police-report-l"/>
          <p:cNvPicPr/>
          <p:nvPr/>
        </p:nvPicPr>
        <p:blipFill>
          <a:blip r:embed="rId1"/>
          <a:stretch/>
        </p:blipFill>
        <p:spPr>
          <a:xfrm>
            <a:off x="2286000" y="228600"/>
            <a:ext cx="5056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.  Walking for Justi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ceful: Jesus and Gandh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ycott lasted &gt;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effects to bus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Bus Boycotter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3. AA Churches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61640" y="1766880"/>
            <a:ext cx="380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rches helped with support, meetings, and 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rn Christian Leadership Conference (SCLC) 19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Goal – nonviolent protests against second-    class citizens status; vot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Lead by M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http://www.detroitgospel.com/E-Blasts/images/SCLC-LOGO.jpg"/>
          <p:cNvPicPr/>
          <p:nvPr/>
        </p:nvPicPr>
        <p:blipFill>
          <a:blip r:embed="rId3"/>
          <a:stretch/>
        </p:blipFill>
        <p:spPr>
          <a:xfrm>
            <a:off x="5029200" y="1805040"/>
            <a:ext cx="2398680" cy="244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ts2.mm.bing.net/images/thumbnail.aspx?q=4787235466641485&amp;id=02660f361e1795e5de932bf8ef9a0e05&amp;url=http%3a%2f%2fcdn.mypraiseatl.com%2ffiles%2f2010%2f04%2fsclc-logo.jpg"/>
          <p:cNvPicPr/>
          <p:nvPr/>
        </p:nvPicPr>
        <p:blipFill>
          <a:blip r:embed="rId4"/>
          <a:stretch/>
        </p:blipFill>
        <p:spPr>
          <a:xfrm>
            <a:off x="6572160" y="4286160"/>
            <a:ext cx="2571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acket/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.  Eisenhower Respo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267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ag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v.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ood he had to abide by the courts r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678040" y="1612800"/>
            <a:ext cx="9144000" cy="360"/>
          </a:xfrm>
          <a:prstGeom prst="rect">
            <a:avLst/>
          </a:prstGeom>
          <a:solidFill>
            <a:srgbClr val="ff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http://upload.wikimedia.org/wikipedia/commons/thumb/6/63/Dwight_D._Eisenhower%2C_official_photo_portrait%2C_May_29%2C_1959.jpg/250px-Dwight_D._Eisenhower%2C_official_photo_portrait%2C_May_29%2C_1959.jpg"/>
          <p:cNvPicPr/>
          <p:nvPr/>
        </p:nvPicPr>
        <p:blipFill>
          <a:blip r:embed="rId1"/>
          <a:stretch/>
        </p:blipFill>
        <p:spPr>
          <a:xfrm>
            <a:off x="5257800" y="1752480"/>
            <a:ext cx="343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.  Crisis in Little Roc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or Faubus refused the “Little Rock Nine” to enter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s Ark Nat’l Guard to stop students from 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senhower placed Guard under federal control; students allow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little_rock_nine_escorting.jpg"/>
          <p:cNvPicPr/>
          <p:nvPr/>
        </p:nvPicPr>
        <p:blipFill>
          <a:blip r:embed="rId1"/>
          <a:stretch/>
        </p:blipFill>
        <p:spPr>
          <a:xfrm>
            <a:off x="5030640" y="1752480"/>
            <a:ext cx="4113360" cy="3230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dws.arkansas.gov/About/Legacy/images/gov%20faubus2.jpg"/>
          <p:cNvPicPr/>
          <p:nvPr/>
        </p:nvPicPr>
        <p:blipFill>
          <a:blip r:embed="rId2"/>
          <a:stretch/>
        </p:blipFill>
        <p:spPr>
          <a:xfrm>
            <a:off x="6424560" y="4714920"/>
            <a:ext cx="1324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http://lcweb.loc.gov/loc/kidslc/images/kllilroc.jpg"/>
          <p:cNvPicPr/>
          <p:nvPr/>
        </p:nvPicPr>
        <p:blipFill>
          <a:blip r:embed="rId3"/>
          <a:stretch/>
        </p:blipFill>
        <p:spPr>
          <a:xfrm>
            <a:off x="0" y="228600"/>
            <a:ext cx="9158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.  The Movement Begi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http://www.abbeville.com/images-catalog/full-size/0789201232.jpg"/>
          <p:cNvPicPr/>
          <p:nvPr/>
        </p:nvPicPr>
        <p:blipFill>
          <a:blip r:embed="rId1"/>
          <a:stretch/>
        </p:blipFill>
        <p:spPr>
          <a:xfrm>
            <a:off x="2209680" y="1179360"/>
            <a:ext cx="544860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096480" cy="62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entral3.jpg"/>
          <p:cNvPicPr/>
          <p:nvPr/>
        </p:nvPicPr>
        <p:blipFill>
          <a:blip r:embed="rId1"/>
          <a:stretch/>
        </p:blipFill>
        <p:spPr>
          <a:xfrm>
            <a:off x="2286000" y="60480"/>
            <a:ext cx="5715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little_rock_desegregation_1957-will-counts.jpg"/>
          <p:cNvPicPr/>
          <p:nvPr/>
        </p:nvPicPr>
        <p:blipFill>
          <a:blip r:embed="rId1"/>
          <a:stretch/>
        </p:blipFill>
        <p:spPr>
          <a:xfrm>
            <a:off x="1219320" y="0"/>
            <a:ext cx="642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708760" cy="64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50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4. New Legisl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1719360"/>
            <a:ext cx="3600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Civil Rights Act of 19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 Protect the right to 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Civil Rights division             in the Dept. of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 US Commission 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Right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CLC began a campaign to register vo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5514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A.  Origins of the Movemen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 Plessy v. Fergus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8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9360" indent="-603720">
              <a:spcBef>
                <a:spcPts val="601"/>
              </a:spcBef>
              <a:buClr>
                <a:srgbClr val="d69b8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9360" indent="-603720">
              <a:spcBef>
                <a:spcPts val="601"/>
              </a:spcBef>
              <a:buClr>
                <a:srgbClr val="d69b8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Crow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9360" indent="-603720">
              <a:spcBef>
                <a:spcPts val="601"/>
              </a:spcBef>
              <a:buClr>
                <a:srgbClr val="d69b8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axes, literacy tests, grandfather clause = who ca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facto segregation: segregation by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jure segregation: segregatio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8" descr="JimCrowCar2"/>
          <p:cNvPicPr/>
          <p:nvPr/>
        </p:nvPicPr>
        <p:blipFill>
          <a:blip r:embed="rId1"/>
          <a:stretch/>
        </p:blipFill>
        <p:spPr>
          <a:xfrm>
            <a:off x="5029200" y="1676520"/>
            <a:ext cx="40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857920" y="3733920"/>
            <a:ext cx="2352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 jure or De facto segregatio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Segregation Map"/>
          <p:cNvPicPr/>
          <p:nvPr/>
        </p:nvPicPr>
        <p:blipFill>
          <a:blip r:embed="rId3"/>
          <a:stretch/>
        </p:blipFill>
        <p:spPr>
          <a:xfrm>
            <a:off x="1447920" y="685800"/>
            <a:ext cx="6694200" cy="387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4"/>
          <a:stretch/>
        </p:blipFill>
        <p:spPr>
          <a:xfrm>
            <a:off x="914400" y="4668840"/>
            <a:ext cx="7761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4.  “The Montgomery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Bus Boycott Players”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808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a Parks (19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D. Nixon – Pres. of NA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K, Jr. – leads boy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 Goal:  To fight and end segregation through the cou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 Lead Attorney: Thurgood Mars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  First AA Supreme Court Justice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etired 1991; died 19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Thurgood Marshall"/>
          <p:cNvPicPr/>
          <p:nvPr/>
        </p:nvPicPr>
        <p:blipFill>
          <a:blip r:embed="rId1"/>
          <a:stretch/>
        </p:blipFill>
        <p:spPr>
          <a:xfrm>
            <a:off x="5052960" y="4648320"/>
            <a:ext cx="2368440" cy="211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E. D. Nixon (1899-1987) was a civil rights leader in Montgomery during the 1960s who "/>
          <p:cNvPicPr/>
          <p:nvPr/>
        </p:nvPicPr>
        <p:blipFill>
          <a:blip r:embed="rId2"/>
          <a:stretch/>
        </p:blipFill>
        <p:spPr>
          <a:xfrm>
            <a:off x="5295960" y="2209680"/>
            <a:ext cx="177012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artin Luther King Jr.jpg"/>
          <p:cNvPicPr/>
          <p:nvPr/>
        </p:nvPicPr>
        <p:blipFill>
          <a:blip r:embed="rId3"/>
          <a:stretch/>
        </p:blipFill>
        <p:spPr>
          <a:xfrm>
            <a:off x="7066080" y="3962520"/>
            <a:ext cx="2057400" cy="1650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Rosa Parks in Montgomery after the Supreme Court decision outlawing segregation on public transit."/>
          <p:cNvPicPr/>
          <p:nvPr/>
        </p:nvPicPr>
        <p:blipFill>
          <a:blip r:embed="rId4"/>
          <a:stretch/>
        </p:blipFill>
        <p:spPr>
          <a:xfrm>
            <a:off x="7066080" y="1523880"/>
            <a:ext cx="2077920" cy="223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Naacplogo"/>
          <p:cNvPicPr/>
          <p:nvPr/>
        </p:nvPicPr>
        <p:blipFill>
          <a:blip r:embed="rId5"/>
          <a:stretch/>
        </p:blipFill>
        <p:spPr>
          <a:xfrm>
            <a:off x="5486400" y="76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5. New Political Pow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Great Migration - African Americans moved to Northern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uring 1930s, New Deal helped African Americans = support Democratic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00240">
              <a:spcBef>
                <a:spcPts val="601"/>
              </a:spcBef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981080" y="2957400"/>
            <a:ext cx="529920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ime to work on packet or vocabulary terms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6.  The Push for Desegregatio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3960" y="1676160"/>
            <a:ext cx="40384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CORE: Congress of      Racial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sed Sit-ins:  protesters sat at segregated lunch counters until they were 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Television caught “the ugly face of rac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L5"/>
          <p:cNvPicPr/>
          <p:nvPr/>
        </p:nvPicPr>
        <p:blipFill>
          <a:blip r:embed="rId1"/>
          <a:stretch/>
        </p:blipFill>
        <p:spPr>
          <a:xfrm>
            <a:off x="4941720" y="1676520"/>
            <a:ext cx="3794400" cy="2550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[© Richmond Times-Dispatch]"/>
          <p:cNvPicPr/>
          <p:nvPr/>
        </p:nvPicPr>
        <p:blipFill>
          <a:blip r:embed="rId2"/>
          <a:stretch/>
        </p:blipFill>
        <p:spPr>
          <a:xfrm>
            <a:off x="5165640" y="4284720"/>
            <a:ext cx="3348000" cy="257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1600200" y="4284720"/>
            <a:ext cx="228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82400"/>
                </a:solidFill>
                <a:latin typeface="Times New Roman"/>
              </a:rPr>
              <a:t>Brown v B.O.E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. &amp; Little Rock </a:t>
            </a:r>
            <a:br>
              <a:rPr sz="2800"/>
            </a:b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chool_Segregation___i_Brown_v__The_Board_of_Education__i__and_the_Little_Rock_Nine.asf" descr=""/>
          <p:cNvPicPr/>
          <p:nvPr/>
        </p:nvPicPr>
        <p:blipFill>
          <a:blip r:embed="rId1"/>
          <a:stretch/>
        </p:blipFill>
        <p:spPr>
          <a:xfrm>
            <a:off x="-9360" y="615960"/>
            <a:ext cx="91533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ER</cp:lastModifiedBy>
  <dcterms:modified xsi:type="dcterms:W3CDTF">2012-03-30T22:18:35Z</dcterms:modified>
  <cp:revision>32</cp:revision>
  <dc:subject/>
  <dc:title>PowerPoint Presentation</dc:title>
</cp:coreProperties>
</file>